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94CC-8F0B-4890-A4A3-BD5296B0B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5F27-2F7C-48C4-96F8-97277B8D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7754-4F8B-4D33-8F4B-8126EF30A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13E0-DCE0-4170-9A7F-AB99D5BCE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0B2D-A31C-4C9C-B9CA-85A196DB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B700-2530-4D84-9D32-B738D5BE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9841-B87C-4CCD-9CB8-783914C0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7CE9-9D82-49E6-A9AF-5B445B30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9A9A-25B1-4681-BBAE-70C5080B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7AFC-6894-4D15-A3DD-7BD481F7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50DC-733A-45F4-BEBA-F5F18ECD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DAC3-B1A4-41B0-8CEC-0D7EFEA7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253F-C29F-458D-BF1B-E47E3C33B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688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86200" y="271440"/>
            <a:ext cx="5257800" cy="9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ن كاس المحبِّي قربان الفِدا عَم يِدخُل لَقلبي عا طول المدى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رَح شيل الأشواك مِن نَفسي العطشاني تا حتَّى تِلقاك ربِّي بالقرب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حبوب القمحِ الصارِت قربانِة يسوع قلوب العالَم زارِت سَكنِت بالضُّلو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عنقود اللي جمَعتو من كَرم المحبِّي بِكِلمة حوَّلتو لَدَمَّك يا رَبِّ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5T04:31:23Z</dcterms:created>
  <dc:creator>HANI SAFI</dc:creator>
  <dc:description/>
  <dc:language>en-US</dc:language>
  <cp:lastModifiedBy>HANI SAFI</cp:lastModifiedBy>
  <dcterms:modified xsi:type="dcterms:W3CDTF">2003-04-25T04:32:37Z</dcterms:modified>
  <cp:revision>1</cp:revision>
  <dc:subject/>
  <dc:title>Slide 1</dc:title>
</cp:coreProperties>
</file>